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BFB-C017-4A00-B7A3-7270C12E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B2F-D581-4A88-93CE-FBCC24CD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964-1787-4FE8-8A7E-91F06418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3B5-5F2B-4829-B9A9-6B01A75E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CF6-2F16-40B8-AD9C-54F7FD9C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DBB-1B75-445F-A9D1-5DB657EB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C44-891F-4A89-87CA-B97DEBC6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130-D217-4C44-9D43-BAAE73B8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FED-2ED1-4DDA-8582-4566612A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D48-B0DF-4306-AC7A-520A3E16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FCC-7C3F-4326-A3B4-E5126112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614-993B-49C4-9E3D-8164860A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58D2-489B-4ADF-8808-72E28DFA2D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ageflakes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008-07-23_2049"/>
          <p:cNvPicPr/>
          <p:nvPr/>
        </p:nvPicPr>
        <p:blipFill>
          <a:blip r:embed="rId1"/>
          <a:stretch/>
        </p:blipFill>
        <p:spPr>
          <a:xfrm>
            <a:off x="3124080" y="84240"/>
            <a:ext cx="3800520" cy="6773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1"/>
          <p:cNvSpPr/>
          <p:nvPr/>
        </p:nvSpPr>
        <p:spPr>
          <a:xfrm>
            <a:off x="4114800" y="1981080"/>
            <a:ext cx="2057400" cy="10670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4267080" y="19810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1:  Log onto the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2008-07-23_2154"/>
          <p:cNvPicPr/>
          <p:nvPr/>
        </p:nvPicPr>
        <p:blipFill>
          <a:blip r:embed="rId1"/>
          <a:stretch/>
        </p:blipFill>
        <p:spPr>
          <a:xfrm>
            <a:off x="762120" y="380880"/>
            <a:ext cx="7488000" cy="3362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0" y="5029200"/>
            <a:ext cx="89154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10:  To customize your page; click on change theme and choose the theme you like. Don’t forget to s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2008-07-23_2155"/>
          <p:cNvPicPr/>
          <p:nvPr/>
        </p:nvPicPr>
        <p:blipFill>
          <a:blip r:embed="rId1"/>
          <a:stretch/>
        </p:blipFill>
        <p:spPr>
          <a:xfrm>
            <a:off x="380880" y="838080"/>
            <a:ext cx="8001000" cy="3581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04920" y="47242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11:  Click on change layout to choose the way your page will look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how to make a pagecast"/>
          <p:cNvPicPr/>
          <p:nvPr/>
        </p:nvPicPr>
        <p:blipFill>
          <a:blip r:embed="rId1"/>
          <a:stretch/>
        </p:blipFill>
        <p:spPr>
          <a:xfrm>
            <a:off x="380880" y="0"/>
            <a:ext cx="828828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609480" y="5715000"/>
            <a:ext cx="763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ing students to access pages on your page flakes accou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Allowing others access to a specific page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the page you want to make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menu bu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make a page cast bu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“publish page to the world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l in the appropriate bl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hit save pages and it will give you a url etc.  Make you sure you save it some where.  You can then put it in on a  Wiki or give it to your stud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85800" y="762120"/>
            <a:ext cx="765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s to Erin Stokey for all her help preparing this presen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d by Maggy Lindler and Erin Stokey from Lakeview Academ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thanks to Shelley Paul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odward Academ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o introduced me to Pageflakes through her amazing Web 2.0 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MCj04377990000[1]"/>
          <p:cNvPicPr/>
          <p:nvPr/>
        </p:nvPicPr>
        <p:blipFill>
          <a:blip r:embed="rId1"/>
          <a:stretch/>
        </p:blipFill>
        <p:spPr>
          <a:xfrm>
            <a:off x="1523880" y="3429000"/>
            <a:ext cx="640080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008-07-23_2059"/>
          <p:cNvPicPr/>
          <p:nvPr/>
        </p:nvPicPr>
        <p:blipFill>
          <a:blip r:embed="rId1"/>
          <a:stretch/>
        </p:blipFill>
        <p:spPr>
          <a:xfrm>
            <a:off x="0" y="152280"/>
            <a:ext cx="8991720" cy="1524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447920" y="19810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544760" y="2057400"/>
            <a:ext cx="667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2:  Go to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pageflakes.co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cl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ign up button or login ( after you cre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ccount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2008-07-23_2057"/>
          <p:cNvPicPr/>
          <p:nvPr/>
        </p:nvPicPr>
        <p:blipFill>
          <a:blip r:embed="rId1"/>
          <a:stretch/>
        </p:blipFill>
        <p:spPr>
          <a:xfrm>
            <a:off x="2286000" y="1238400"/>
            <a:ext cx="4629240" cy="56196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279440" y="112680"/>
            <a:ext cx="57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838080" y="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3:   Create an account by filling the fields be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008-07-23_2101"/>
          <p:cNvPicPr/>
          <p:nvPr/>
        </p:nvPicPr>
        <p:blipFill>
          <a:blip r:embed="rId1"/>
          <a:stretch/>
        </p:blipFill>
        <p:spPr>
          <a:xfrm>
            <a:off x="2119320" y="1833480"/>
            <a:ext cx="4905360" cy="31910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31760" y="380880"/>
            <a:ext cx="885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4:  After you create your account – the next time you log in you click login ( as shown in slide 2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page flakes example"/>
          <p:cNvPicPr/>
          <p:nvPr/>
        </p:nvPicPr>
        <p:blipFill>
          <a:blip r:embed="rId1"/>
          <a:stretch/>
        </p:blipFill>
        <p:spPr>
          <a:xfrm>
            <a:off x="838080" y="380880"/>
            <a:ext cx="7667640" cy="5238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09480" y="5638680"/>
            <a:ext cx="814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5:  After login Pageflakes will create a default pag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2008-07-23_2152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0" y="50292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6:  From your default page you will begin to create your Pageflake. Don’t forget to click on the page tab ( see top of slide 5) to rename your page for next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008-07-23_2110"/>
          <p:cNvPicPr/>
          <p:nvPr/>
        </p:nvPicPr>
        <p:blipFill>
          <a:blip r:embed="rId1"/>
          <a:stretch/>
        </p:blipFill>
        <p:spPr>
          <a:xfrm>
            <a:off x="990720" y="0"/>
            <a:ext cx="7383240" cy="5619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80880" y="548496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7:  Click on the menu button and begin exploring the flakes you want to add to your p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008-07-23_2114"/>
          <p:cNvPicPr/>
          <p:nvPr/>
        </p:nvPicPr>
        <p:blipFill>
          <a:blip r:embed="rId1"/>
          <a:stretch/>
        </p:blipFill>
        <p:spPr>
          <a:xfrm>
            <a:off x="380880" y="457200"/>
            <a:ext cx="8326440" cy="4438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" y="5141880"/>
            <a:ext cx="809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8:  You can click on any flakes you see or browse all flakes that are available for you to insert to your p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008-07-23_2116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28600" y="548640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9:  This is the screen you get after you click the browse button.  When you find one you want click “add to my page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15:04:13Z</dcterms:created>
  <dc:creator>margaret.lindler</dc:creator>
  <dc:description/>
  <dc:language>en-US</dc:language>
  <cp:lastModifiedBy>Connie White</cp:lastModifiedBy>
  <dcterms:modified xsi:type="dcterms:W3CDTF">2008-07-29T19:25:35Z</dcterms:modified>
  <cp:revision>5</cp:revision>
  <dc:subject/>
  <dc:title>Slide 1</dc:title>
</cp:coreProperties>
</file>